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ADCD-F51B-44A1-B56D-458E145C3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40B4-1DC3-4D4F-AF16-5CBC58E9D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1358-CDC8-4EB5-BDFA-095CF4D7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7DF-570D-406A-ABE2-2CCFB580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D63-19FF-4576-85F1-AAEC7298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072-CD0A-41CF-AE64-32821403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D4E-EAFF-43B9-8570-5B056C6B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26E-EBC1-41C0-B75D-95D5923F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0C9-A4A2-42CC-8973-7F023E86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406-82F2-4EA0-8585-950383CC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6B1-085C-4AFE-A186-3912DFA1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5A5-4496-47BE-87C9-4C029FF0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9AA-1C30-4624-91D5-B14D5376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9B7-408D-43A2-91C2-2F85016C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6756-E784-40B6-BE0F-4F406EF26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fastweb.com/" TargetMode="Externa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ollege.monster.com/" TargetMode="Externa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fafsa.ed.gov/" TargetMode="External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ege is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ge Education Opens Do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 Better Job and Many Other Benef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is a Lot of F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get to do amazing things and to train for a job you will enjoy. There are many activities on college camp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meet smart and interesting people and make lifelong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college, it is cool to be smart. You will learn how to think and express yourself more clearly and solve important problems. You will become more conf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7BA8-E8BD-4E9E-941F-DE7921221234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our democracy every young person should have an equal opportunity to obtain a higher education, regardless of his station in life or financial mea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resident John F. Kenn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Content Placeholder 6" descr="John_F_Kennedy-749600.jpg"/>
          <p:cNvPicPr/>
          <p:nvPr/>
        </p:nvPicPr>
        <p:blipFill>
          <a:blip r:embed="rId1"/>
          <a:stretch/>
        </p:blipFill>
        <p:spPr>
          <a:xfrm>
            <a:off x="5562720" y="1600200"/>
            <a:ext cx="2762280" cy="366696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4"/>
          <p:cNvSpPr/>
          <p:nvPr/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BE36-7093-4E4F-BC28-EF664048A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ous College Gradu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reem Abdul-Jabbar – UC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 Clinton – Georgetow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ary Clinton – Wellesl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 Cosby – Templ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ria Estefan – Univ. of Mi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die Foster – Yal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uis Gossett, Jr. – NY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h Hefner – Univ. of Illin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ic Johnson – Michigan 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my Lee Jones – Harv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F. Kennedy – Harv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Luther King Jr. – 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ke Lee – Morehouse, NY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06632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y Leno – Emerson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Letterman – Ball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 Nye – Bridgewate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quille O'Neal – L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ack Obama – Occid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alie Portman – Harv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in Powell – CUNY, GW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nald Reagan – Eure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K. Rowling – Univ. of Ex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ia Sotomayor – Prince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ia Stiles – Colu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ourney Weaver – Stanf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rah Winfrey – Tenn.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91B1-B1CD-4962-896E-D78E27F84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Pay for Colle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financial aid helps you pay the college b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types of student financi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larships are about more than just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find scholarshi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apply for scholarshi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apply for need-based 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falls: Beware of scholarship sca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1F23-1973-419F-8481-5F22753E0B88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ing Colleg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ducation costs money, but then so does igno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 Claus M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Content Placeholder 8" descr="_303632_sir_claus150.jpg"/>
          <p:cNvPicPr/>
          <p:nvPr/>
        </p:nvPicPr>
        <p:blipFill>
          <a:blip r:embed="rId1"/>
          <a:stretch/>
        </p:blipFill>
        <p:spPr>
          <a:xfrm>
            <a:off x="5257800" y="1905120"/>
            <a:ext cx="3011400" cy="324792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4"/>
          <p:cNvSpPr/>
          <p:nvPr/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0461-17FA-4BA7-87FC-ACB4DE6C3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Financial Aid Pays the B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isn’t as expensive as you might th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 lot of money available to help you pay for colle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financial aid will help you bridge the gap between college costs and what you and your family can afford to p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aid includes money from the federal and state government, money from the colleges themselves, and scholarships from foundations, private organizations and compan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3F9A-5989-4E89-B7C4-6A02812547F7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Types of Student Financi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 aid, such 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olarshi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is free money that does not need to be repa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employment, such as part-ti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k-study jo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lets you earn as you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udent lo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is money that is repaid over several years, usually with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tax benefits, such a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pe Scholarsh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credit, which is money you get by filing a federal income tax return, even if you don’t owe any ta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ary student aid, such 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T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I B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you earn money for your education in exchange for service in the United States Armed Fo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7076-B68A-4E50-B74B-3E35FBC19FC3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st Type of Student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ts and scholarships are better than student loans because you don’t have to pay them ba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unds are awarded based on financial need (the difference between the costs and ability to pa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unds are based on academic, artistic or athletic merit or other skills an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unds are based on unusual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 prom costume out of duct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cholarship for left-handed stud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cholarship for students with a last name of Zo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C168-EF61-4D2C-A5CD-9242421F8DD3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is a Passport to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ducation is our passport to the future, for tomorrow belongs to the people who prepare for it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colm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Content Placeholder 8" descr="Malcolm_X_NYWTS_4.jpg"/>
          <p:cNvPicPr/>
          <p:nvPr/>
        </p:nvPicPr>
        <p:blipFill>
          <a:blip r:embed="rId1"/>
          <a:stretch/>
        </p:blipFill>
        <p:spPr>
          <a:xfrm>
            <a:off x="4879800" y="1417680"/>
            <a:ext cx="3651480" cy="4174920"/>
          </a:xfrm>
          <a:prstGeom prst="rect">
            <a:avLst/>
          </a:prstGeom>
          <a:ln w="0">
            <a:noFill/>
          </a:ln>
        </p:spPr>
      </p:pic>
      <p:sp>
        <p:nvSpPr>
          <p:cNvPr id="145" name="Slide Number Placeholder 4"/>
          <p:cNvSpPr/>
          <p:nvPr/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DB48-80A3-4AE1-B9AD-C5F27B5A9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Just 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ganizations that award scholarships are focused on more than just giving away mone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ant to eliminate barriers to college succ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ry to build a community of their scholarship recipi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meet people just like yourself and make lifelong frie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get someone to talk to, someone you can t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810F-44F0-4C8B-BD48-11CE2FC47729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 You Go To Colle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is the pathway to success and a bette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graduates earn more money and get better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mployment rates are lower for college gradu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will help you help your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is a lot of fu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ho’s Who of Famous College Gradu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Pay for Colle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CF30-B607-4AB1-A039-F2C37551DDCD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Find Scholarship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free online scholarship match service lik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astWeb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t takes only half an h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matches your personal background characteristics against a very large database of scholarships, so you will see only those scholarships for which you are qual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stWeb database is updated daily, with automatic email notification of new awards that match your pro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stWeb site also provides a lot of news, information and ad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E3E3-2FA1-44E3-A25E-13A1DDCFD458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Ways of Finding Schola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guidance counselor might post information about scholarships outside his/her office or on the school web s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guidance counselors publicize scholarships in the school bulletin or distribute scholarship bookl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find scholarships in books in your local public library or bookst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sterCollege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llege.monster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ists internships and part-time/entry-level jobs as another source of money for colle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B678-F62C-438F-924B-A29CA169FD64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Searching for Scholarships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searching for scholarships as soon as po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cholarships with deadlines throughout the year, so the sooner you start searching, the more scholarships you will fi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even scholarships for children in the grades K-8 in addition to scholarships for high school students in grades 9-1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ontinue searching for scholarships after you are enrolled in colle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F33D-4717-4A5C-AA21-A3769B22EB3E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Apply for Scholarshi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you locate the scholarships, you will need to submit an application to each scholar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cholarships require short essays, letters of recommendation and high school tran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become a finalist, some scholarships will conduct an in-person or telephone intervie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in the scholarship, the sponsor will hold the money until you have enrolled in college. They will then send a check to you and/or to the college to help you with your college co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3021-B2B8-4964-865A-0ACD94F48D33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Lose Your Schola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cholarships are renewable, which means you get money every year you are in colle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, you will need to get good grades to keep the scholarship and send a short progress report to the sponsor once a y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ight also need to get involved in community service or other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74F4-EEA8-4D59-A00B-D48F318B833A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is an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a man empties his purse into his head, no one can take it from him. An investment in knowledge always pays the highest retu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jamin Frank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Content Placeholder 8" descr="Benjamin-Franklin-U.S.-$100-bill.jpg"/>
          <p:cNvPicPr/>
          <p:nvPr/>
        </p:nvPicPr>
        <p:blipFill>
          <a:blip r:embed="rId1"/>
          <a:stretch/>
        </p:blipFill>
        <p:spPr>
          <a:xfrm>
            <a:off x="4648320" y="1400040"/>
            <a:ext cx="4114800" cy="42102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4"/>
          <p:cNvSpPr/>
          <p:nvPr/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04A0-6521-4492-995B-3F742F869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apply for need-based 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the Free Application for Federal Student Aid (FAFSA) online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afsa.ed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pply for need-based grants, loans and work-stu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FSA is used to calculate your “expected family contribution” or EFC, a measure of your family’s annual ability to pay for colle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wer EFC makes you eligible to receive more need-based financial aid, such as the Federal Pell Gr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Need = Cost of Attendance – E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th a lower EFC qualify for more financial 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th a zero EFC (mostly students with family income less than $30,000) have full financial need and qualify for even more financial aid to help pay for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884A-73EF-463C-BD7B-091A130B37AA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 of Scholarship Sc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066320"/>
            <a:ext cx="8229600" cy="49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 of scholarships that charge any kind of an application fee, even if it is just a few doll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't invest more than a postage stamp for information about scholarships or to apply for scholarshi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to pay money to get mone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probably a sc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give out your Social Security number, bank account number, credit card number or debit card number to any scholarship provi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ody can guarantee that you will win a scholar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B23B-B1A4-4312-8B2F-8B7483B54E0C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of Th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he function of the university is not simply to teach bread-winning, or to furnish teachers for the public schools or to be a centre of polite society; it is, above all, to be the organ of that fine adjustment between real life and the growing knowledge of life, an adjustment which forms the secret of civilization.</a:t>
            </a:r>
            <a:br>
              <a:rPr sz="21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W.E.B. DuBo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The Souls of Black Fo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Content Placeholder 6" descr="WEB_DuBois_1918.jpg"/>
          <p:cNvPicPr/>
          <p:nvPr/>
        </p:nvPicPr>
        <p:blipFill>
          <a:blip r:embed="rId1"/>
          <a:stretch/>
        </p:blipFill>
        <p:spPr>
          <a:xfrm>
            <a:off x="4816440" y="1066680"/>
            <a:ext cx="3778200" cy="4876920"/>
          </a:xfrm>
          <a:prstGeom prst="rect">
            <a:avLst/>
          </a:prstGeom>
          <a:ln w="0">
            <a:noFill/>
          </a:ln>
        </p:spPr>
      </p:pic>
      <p:sp>
        <p:nvSpPr>
          <p:cNvPr id="177" name="Slide Number Placeholder 4"/>
          <p:cNvSpPr/>
          <p:nvPr/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F610-6C53-41A8-A416-E8B5BBD6F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B16E-B4D6-4093-BCAA-574ED8F08D02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way to Success and a Better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opens doors to opportunity and expands your horizons. You will experience new points of 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ing from college will be a source of pride because it is a great accomplish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get to follow your dreams and determine your futu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0BAE-A1A9-4605-944A-4FDEF953EE6A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Graduates Earn More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Content Placeholder 4" descr=""/>
          <p:cNvPicPr/>
          <p:nvPr/>
        </p:nvPicPr>
        <p:blipFill>
          <a:blip r:embed="rId1"/>
          <a:stretch/>
        </p:blipFill>
        <p:spPr>
          <a:xfrm>
            <a:off x="450720" y="1139760"/>
            <a:ext cx="8242560" cy="473076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269A-A8AD-4027-A831-8D8375A1E83A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n More by Staying in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choo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adu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rn $430,000 more over their lifetimes than high schoo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rop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your income by graduating from colle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sociate’s degree is worth $390,000 more than a high school dipl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chelor’s degree is worth $1.2 million more than a high school dipl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octorate (Ph.D.) is worth $1.7 million more than a Bachelor’s deg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fessional (law or medical) degree is worth $2.9 million more than a Bachelor’s deg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EC3A-010B-44AA-B774-6C63EFD938A6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is a Pathway to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a global economy where the most valuable skill you can sell is your knowledge, a good education is no longer just a pathway to opportunity – it is a prerequi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dent Barack Ob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6" descr="3197571945_123937185f.jpg"/>
          <p:cNvPicPr/>
          <p:nvPr/>
        </p:nvPicPr>
        <p:blipFill>
          <a:blip r:embed="rId1"/>
          <a:stretch/>
        </p:blipFill>
        <p:spPr>
          <a:xfrm>
            <a:off x="5410080" y="1676520"/>
            <a:ext cx="2743200" cy="373680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4"/>
          <p:cNvSpPr/>
          <p:nvPr/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6F4B-781A-4105-8EFB-D3A6BE73C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is Required for a Better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highest paying jobs require a college deg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for college graduates include better benefits, such as health insurance and retirement pl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graduates have half the unemployment rates of high school graduates and better job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more jobs available for college graduates than high school gradu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22F2-FB8B-42B4-B4FE-FD979138164E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= Lower Unemployment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tent Placeholder 3" descr=""/>
          <p:cNvPicPr/>
          <p:nvPr/>
        </p:nvPicPr>
        <p:blipFill>
          <a:blip r:embed="rId1"/>
          <a:stretch/>
        </p:blipFill>
        <p:spPr>
          <a:xfrm>
            <a:off x="450720" y="1139760"/>
            <a:ext cx="8242560" cy="473076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4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C7B2-F6A5-4F85-A52F-003075BBF7A0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Helps You Help Your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able to support your family with a larger sal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pave the way for your brothers and sisters and other relatives to go to colle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able to help your children with their homework and give them a better life. As a result, they will be more likely to attend colle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F510-6B48-40FE-A346-7EFFF377E380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48:50Z</dcterms:created>
  <dc:creator>Monster Worldwide</dc:creator>
  <dc:description/>
  <dc:language>en-US</dc:language>
  <cp:lastModifiedBy>ASD</cp:lastModifiedBy>
  <dcterms:modified xsi:type="dcterms:W3CDTF">2011-06-08T17:40:45Z</dcterms:modified>
  <cp:revision>130</cp:revision>
  <dc:subject/>
  <dc:title>PowerPoint Presentation</dc:title>
</cp:coreProperties>
</file>